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754-AF6B-40D2-B9A8-1F1227AA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AAE-21DE-40F8-8712-F335ABE6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7EA-D6D4-472C-BEE3-D7995105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CBA-DD2B-4B9D-A09D-F9F937BC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B7C-643B-4429-BBDD-B6A24E55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ECF-E114-40BB-848A-4B50F988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E5C-EDEB-4CF6-B2D5-E7C9F116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877-B0B6-481F-AE7D-DEAD2AA6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EB2-911E-4BD2-8CA9-3E18E71B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472-5D18-4963-AE11-BD43B2A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FCF-7389-43A6-AA14-C5061AE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A35-88B1-43C3-8C00-AAB3AB86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B82-2AFD-497A-93D7-0F61A715E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2</cp:lastModifiedBy>
  <dcterms:modified xsi:type="dcterms:W3CDTF">2008-12-15T21:49:25Z</dcterms:modified>
  <cp:revision>1</cp:revision>
  <dc:subject/>
  <dc:title>PowerPoint Presentation</dc:title>
</cp:coreProperties>
</file>